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75EC-E0CC-4B6C-9814-76E512026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senior developer and das coordinator at the sanger, previously I was a bioinformatics consultant and used DAS many years ago as an “user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S Stops us from suffering under too much data to man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us to download annotations for regions of interest rather than for whole genomes or data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data providers to be in control of their annotations displayed to the world and can keep them up to date for u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d Annotation System, allows  data providers to provide their data over the web in a common form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t of possible http requests and standard xml respo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embl, Apollo, Gbrowse, Spice fo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 system can be a genome build such ncbi_36 or uniprot protein sequences for alig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ient can then get a list of das sources that are available for each coordinate system which the user chooses ones of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ient/user then chooses a region of interest e.g. human chromosome 1 bases 1 million 1.1 m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ient then shows the annotations on this region from local sources as well as remote das 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S1 in early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S1.53E later with support for proteins added and the reg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ity of users see no great advantage of moving to DA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s or DAS1 servers compared to a handful of DAS2 ser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5B31-8930-408D-BAB3-BE609E81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7760-EA1F-4C74-B7FD-AE5F2B64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17AE-9413-4E25-9D41-C333D825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B32-46C9-4A6D-9118-7AA0A9EE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A752-68E5-439A-96B5-1CB36A41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9163-AFCC-43A3-9B4E-563DC9BB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19C2-76B4-4773-AD6E-9F5A97C5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1877-F4AA-4484-860A-AA1B2DA5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016C-12B4-426D-B738-6C3D4521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CC42-881E-4BF5-885A-1D8824DC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D292-E27E-4732-BF92-6C6C5C55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A98E-66C9-499B-8AFA-72E754C0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BFA7-F58F-4AD6-A900-82B474DC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F96B-29E7-4EBD-A267-9131FFA8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B964-4352-415C-80DB-71FD3A17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A3FC-DA35-4387-973C-FC0A29D3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99F2-2B26-45E7-A07D-ABFB0ADE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2876-6D38-41C7-B447-5C79A3D9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294-70FE-4E46-B43C-0EB1126E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8AC-7DEB-4FC1-878F-F46B407F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13E5-E4B5-4D82-A87C-00C5B3B8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1CE7-7DD6-4576-A9A2-23199FF6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BD18-2DEF-49BB-87B8-C3EF90E1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ED52-8C18-4B34-B5B6-077488E7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8F7F-1E77-4279-B6A3-ACF02C55A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D7CE-B79B-4529-852E-896678AD31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iodas.org/" TargetMode="External"/><Relationship Id="rId2" Type="http://schemas.openxmlformats.org/officeDocument/2006/relationships/hyperlink" Target="http://www.dasregistry.org/" TargetMode="External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dasregistry.org/das/sources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dasregistry.org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Current Situation and Future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athan War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coordinator for the Sanger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ioda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asregistry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ressing issues co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identify when two DAS servers are using the same coordinate system (doable with help of Sanger DAS regis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standard way to create and edit DAS features 1.6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ressing issues co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ify whether a DAS server is compliant with the 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for improving interoperability between clients and servers developed by different groups. The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validation capability of the registry for 1.53E and upcoming 1.6E sp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x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dasregistry.org/validation/sources.r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991720" cy="5546880"/>
          </a:xfrm>
          <a:prstGeom prst="rect">
            <a:avLst/>
          </a:prstGeom>
          <a:ln w="9360">
            <a:solidFill>
              <a:srgbClr val="e81a07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533520" y="76320"/>
            <a:ext cx="863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asregistry.org/das/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asregistry.org/services/das:das_directory?ws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2819520"/>
            <a:ext cx="167616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1800" y="684000"/>
            <a:ext cx="73404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1800" y="2118960"/>
            <a:ext cx="73404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validation (headers and feature by i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of bulk uploading/mirroring DAS sources to Registry (sources cm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all of ensembl genomes (bacteria and viruses) as DAS sources and to the regi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ng the 1.6 spec - hierarchies, nextFe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ing client libraries and servers to work with both 1.53 and 1.6 sp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continu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user interface to the registry for faster searching using Lucene - also limited version available from Sanger and EBI s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r supprt for ontologies-give me all das sources that provide g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rari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erver, LDAS -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::Das::Lite - client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zzle, MyDAS -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obert - client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DAS provide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Affyme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BioSapiens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nsemb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KEGG 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Sanger D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BI Genomic D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BI Protein D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Uniprot D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TIGR's listing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UCSC ser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cli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 Ensemb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Da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Pf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DASh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D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history and current sit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we doing at the moment and where are we g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lin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bioda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asregistry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m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y Jenkinson (EB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as Pr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gg H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Hubb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0010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27400"/>
            <a:ext cx="755640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ribu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nota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HTTP and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oordinat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s to one registry for DAS server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a region of interest from the reference and many annotations from the DAS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Content Placeholder 7" descr="Canonical DAS.tiff"/>
          <p:cNvPicPr/>
          <p:nvPr/>
        </p:nvPicPr>
        <p:blipFill>
          <a:blip r:embed="rId1"/>
          <a:srcRect l="0" t="-2192" r="0" b="-2192"/>
          <a:stretch/>
        </p:blipFill>
        <p:spPr>
          <a:xfrm>
            <a:off x="0" y="1752480"/>
            <a:ext cx="914400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s are “intellig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s should be spec compli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reques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xml format retu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1 The Distributed Annot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in D Dowell, Rodney M Jokerst, Allen Day, Sean R Eddy and Lincoln S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1.53E + DAS2 running in paral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workshop in March this year DAS1.6E is expected to provide the functionality that DAS2 users desired =&gt; DAS2 is d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 spec has new features and is a consolidation of the way DAS is being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E has extensions being develop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DAS 1.5/1.6 Comman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yle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ituation- addressing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features with more than two levels 1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y relate feature types to a more structured ontology 1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09:06:24Z</dcterms:created>
  <dc:creator>Sanger Institute</dc:creator>
  <dc:description/>
  <dc:language>en-US</dc:language>
  <cp:lastModifiedBy>Sanger Institute</cp:lastModifiedBy>
  <dcterms:modified xsi:type="dcterms:W3CDTF">2009-08-07T14:26:31Z</dcterms:modified>
  <cp:revision>43</cp:revision>
  <dc:subject/>
  <dc:title>DAS Current Situation and Future Developments</dc:title>
</cp:coreProperties>
</file>